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EBBB-4731-4C89-BB97-DB48CD74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C56-7EF8-43CD-9C57-81434314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7F1-6529-402F-A9F7-16DCD247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9D7-5BDB-43FA-B3C4-6EAEA82B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0EB-0468-42A0-AA80-88128EAC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46A5-54A5-4D19-9E5B-16066D97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CEB-EBDA-4E9A-8FF8-6E2D38A6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E157-35D9-4BDC-8D0D-276DD0F1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46D-5928-40E8-80A8-70F95E91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C17-8588-4E26-AEC6-782F63E0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A8F-4A97-47DD-9258-1D43FA39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6B1-37FD-49C1-A533-6DF2AA5E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3239-700F-40EC-92D5-2DFF1E2D9313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lephant"/>
                <a:ea typeface="Osaka"/>
              </a:rPr>
              <a:t>Los instrumentos músicales andinos</a:t>
            </a:r>
            <a:endParaRPr b="0" lang="en-US" sz="6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2432160" cy="207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191120" y="4191120"/>
            <a:ext cx="1252440" cy="1938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14400" y="228600"/>
            <a:ext cx="267804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162920" y="3962520"/>
            <a:ext cx="1444680" cy="2674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334120" y="228600"/>
            <a:ext cx="28335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7637400" cy="68644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81120" y="1447560"/>
            <a:ext cx="3962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Elephant"/>
              </a:rPr>
              <a:t>El siku</a:t>
            </a:r>
            <a:endParaRPr b="0" lang="en-US" sz="7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62720" y="0"/>
            <a:ext cx="3581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¿Puedes ver el siku? ¿El charango? ¿Y la guitarra?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¿Cuáles instrumentos músicales puedes ver?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373040"/>
            <a:ext cx="91440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La antara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76120" y="-717480"/>
            <a:ext cx="9488520" cy="8115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38480" y="533412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Elephant"/>
              </a:rPr>
              <a:t>La antara</a:t>
            </a:r>
            <a:endParaRPr b="0" lang="en-US" sz="7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Las chajcha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28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Elephant"/>
              </a:rPr>
              <a:t>Las chajchas</a:t>
            </a:r>
            <a:endParaRPr b="0" lang="en-US" sz="7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Elephant"/>
              </a:rPr>
              <a:t>El charango</a:t>
            </a:r>
            <a:endParaRPr b="0" lang="en-US" sz="7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62720" y="0"/>
            <a:ext cx="3581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Elephant"/>
              </a:rPr>
              <a:t>El señor toca el charango</a:t>
            </a:r>
            <a:r>
              <a:rPr b="0" lang="en-US" sz="54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cd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Elephant"/>
              </a:rPr>
              <a:t>El hualaycho</a:t>
            </a:r>
            <a:endParaRPr b="0" lang="en-US" sz="7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9279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Las ocarina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4876920"/>
            <a:ext cx="3886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Elephant"/>
              </a:rPr>
              <a:t>Las ocarinas</a:t>
            </a:r>
            <a:endParaRPr b="0" lang="en-US" sz="6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6324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Elephant"/>
              </a:rPr>
              <a:t>La</a:t>
            </a:r>
            <a:r>
              <a:rPr b="0" lang="en-US" sz="7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Elephant"/>
              </a:rPr>
              <a:t>quena</a:t>
            </a:r>
            <a:endParaRPr b="0" lang="en-US" sz="7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332000"/>
            <a:ext cx="914400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Elephant"/>
              </a:rPr>
              <a:t>La tinya</a:t>
            </a:r>
            <a:endParaRPr b="0" lang="en-US" sz="7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320" y="1295280"/>
            <a:ext cx="909468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3:15:47Z</dcterms:created>
  <dc:creator>Weston Schools</dc:creator>
  <dc:description/>
  <dc:language>en-US</dc:language>
  <cp:lastModifiedBy>Karen Murano</cp:lastModifiedBy>
  <dcterms:modified xsi:type="dcterms:W3CDTF">2009-03-25T21:42:23Z</dcterms:modified>
  <cp:revision>8</cp:revision>
  <dc:subject/>
  <dc:title>Los instrumentos musicales andinos</dc:title>
</cp:coreProperties>
</file>